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A7C5-47BF-4860-83AC-38FBCD4F7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3F3A-8B97-4A40-A655-8FCACAB67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8DD-5C18-4CD5-A39D-FBEDBD2A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8588-0041-41E9-8B79-94C605AE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D7D-E7C5-4D19-B87D-7A709A46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73B-A7A0-4DCA-A212-99D5F2E8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0A17-6242-44EA-8EF1-4B0FDB39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5976-4F24-4E0A-A2D9-677265EB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40E6-C7D0-46E4-B3AC-48C607A2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1F0-97B8-4891-9332-685BE037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F05-CCF2-4685-BDFE-0AFB4303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31B-E937-46E8-92E8-098AEB90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A7F-9774-4DD9-8732-79B5F97C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EB0-C4BC-4829-8D37-E7A95F73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6841-0872-49F2-ABBC-DEBF29B2DC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CT 333: Imagining the Audience in a Wired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7: Qualitativ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ing strongly on one instance - “thick descriptio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al is not generalizability but transferability - case is unique but can still highlight trends in similar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uild towards grounded (or intuitive) theory - particularly if other cases confirm – e.g., Gersick’s “punctuated equilibrium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 to project focu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nography &amp; Ob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through observing people and their activities in 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nography - a more detailed, holistic investigation of people and their social con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empathy but also some degree of neutrality (or else you “go native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 to project focu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xtual Inquiry and Action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in design, the point is not simply to understand but to influence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ual inquiry - elements of observation but also elements of changing that which is observed – e.g., Suchman “situated actions”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s many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buy-in of those in contex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xtual Inquiry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ef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w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of flow of information (and its potential breakdow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, processes and groups - and their relations in handling in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 is often circular – feedback lo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, Choo – information needs, seeking and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examp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gs to consider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ual links vs. theoretical (e.g., the org chart probl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ic actions - things that people do without thi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for breakdowns and bottlene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quence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task representation - flow for tasks (similar to Assignment 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t - what sequence is supposed to 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gger - what sets the sequence in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s - how this is d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kdowns - problems in proced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gs to consider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vents that impact performance local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ons or intents that don’t fit the “right” model - breakdowns and contingen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nches of action - flowchart and decision m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ifact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ols and artifacts of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 (what 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 (information about what 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ation (representation of what 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otation (comments about what 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gs to consider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ifacts as representations of flow and sequence – information artifacts are usually very 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in artifact form, presentation might cause immediate concern or revolt from users -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in groups by today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al research – moving to the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ensure you have everything in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scenarios/requirements and 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presentations still the s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design projects around either sustainable technologies or appropriate tech for underserved populations (design for the other 9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ural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ive culture, norms, values of culture - and its influence on activity, for better or wo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luencers - leaders (formal and informal) whose actions carry weight (and conversely, those who don’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gs to consider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le influence (e.g., role of authority structure, bridging ro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istics and mobility of informal lea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ques and counter-cultures - why they exist, and why they can be of help at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al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 and proximity can influence flow and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lay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flow movement diagra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strial design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gs to consider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pping layout and flow in physical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tlenecks and potential efficien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s to culture - are cliques physically separated as wel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w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 on surveys and quantitative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: what methods to cho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“right” answer as to what methods to use (but there’s better and worse solutions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sions based on focus of inquiry, required knowledge, resources available, costs, access to people, activities, contexts,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xed methods - complementary methods that back up same conclusion – helpful, but complicated to design research r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litative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quiries for general vs. specific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in human/social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s and tells a narrative – can be used in informing use cases, scen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ary source rese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views/Focus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 Studies/Grounded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nography/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ual Inquiry/Action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ary Source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ary source - learning from what’s already out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reading - what was learned when from whom via what methods - and consequently, what was not lear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cation to project focu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n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rative created through analysis of existing or generated artif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mpt to find common patterns or occur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d - either computer-based (e.g., nVivo) or manually (e.g., index cards, whiteboar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cation to project focu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s with individuals to discover their perspective or opin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d vs. unstructured – most are struct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be recorded and analyzed at later date via content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cation to project focu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cus Gro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ive interview - allows for gaining more opinion in sam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generates information via dialogue and debate - especially in heterogeneous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ries of groupthink, leaders influencing 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more complic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cation to project focu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6:40:12Z</dcterms:created>
  <dc:creator/>
  <dc:description/>
  <dc:language>en-US</dc:language>
  <cp:lastModifiedBy>Sheridan College</cp:lastModifiedBy>
  <dcterms:modified xsi:type="dcterms:W3CDTF">2010-02-22T18:06:52Z</dcterms:modified>
  <cp:revision>18</cp:revision>
  <dc:subject/>
  <dc:title>CCT 333: Imagining the Audience in a Wired World</dc:title>
</cp:coreProperties>
</file>